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8.png" ContentType="image/png"/>
  <Override PartName="/ppt/media/image12.jpeg" ContentType="image/jpeg"/>
  <Override PartName="/ppt/media/image43.png" ContentType="image/png"/>
  <Override PartName="/ppt/media/image46.jpeg" ContentType="image/jpeg"/>
  <Override PartName="/ppt/media/image38.jpeg" ContentType="image/jpeg"/>
  <Override PartName="/ppt/media/image49.jpeg" ContentType="image/jpeg"/>
  <Override PartName="/ppt/media/image31.jpeg" ContentType="image/jpeg"/>
  <Override PartName="/ppt/media/image53.png" ContentType="image/png"/>
  <Override PartName="/ppt/media/image30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491-4B44-41CE-B808-9A016B27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095-E729-48AE-A120-2DE3F501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CBB-77C0-4DCB-84A4-C243014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E75-1CBF-4C15-B708-26D974A9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E4D5-60DD-4946-9036-98EA86A2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378-18D7-4E50-BB52-71CF4168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2886-B1FF-4021-B1B2-768653DE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F5CF-EA86-4B4A-991D-766CD74B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B991-10AF-4A01-AF57-6096924C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5DCB-7257-4F15-B775-74C2E7FC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DF46-BF01-440A-84B1-1A18F258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C41-9E79-41EF-BB2C-B7F48BCB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A3C-BDAD-46F3-8655-1068AE02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25D1-EB62-4EAF-9DF4-48ED618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8DF3-1914-4B55-AA7D-6C6425FF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E89D-28E1-4E67-84F9-4FF41AE0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2EA2-F097-4196-BC35-98CC319B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6E1-7FDD-4523-89AB-BA5E4509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1E4-3E2B-44FB-ABDF-F450069E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C96-77C0-4EF4-8DBC-A5B9B1AA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80E-8BC4-4CE5-A701-E011237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9D0-67AA-4ADD-8DB8-1F0E9DAC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BFC-7B8D-4C23-95CF-604C318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C4B-0888-4759-BFCB-948BC7B1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53F0-AF95-4BF2-86E5-6987671C976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8150-583B-476E-8D3E-962DECEA31A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. наставна јединица (друг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ештина невербалне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с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шт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стој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796000" y="826920"/>
            <a:ext cx="291636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9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ј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уг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треми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живљ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ећ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ред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2" descr="http://t1.gstatic.com/images?q=tbn:ANd9GcS2MIlds4i2rchxqqUyGrEgITCBKjOdq_rSmBVN--OSJPiniRGwhCnA5aPjtQ"/>
          <p:cNvPicPr/>
          <p:nvPr/>
        </p:nvPicPr>
        <p:blipFill>
          <a:blip r:embed="rId1"/>
          <a:stretch/>
        </p:blipFill>
        <p:spPr>
          <a:xfrm>
            <a:off x="5724360" y="2997360"/>
            <a:ext cx="2735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миш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ов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и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пада визуелном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ипу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уша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 смишљ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струис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држа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с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антније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://t3.gstatic.com/images?q=tbn:ANd9GcQoov8YXG9NafCWOYaKcrcuK96HWSLG3Bo2g4Z5FfoR1PwRPHfy5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5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бмисивно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риво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утрашњ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ционал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ијалог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”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већенос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опственим емоциј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ног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ултур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то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http://t1.gstatic.com/images?q=tbn:ANd9GcSi5Yc6a7-jwiqrLlNe66Y2YV8jAOSTzlWyV1-Swumb9cwkCBeA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40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крет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влачења паж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т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начи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 замишљ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Латерал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(“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”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г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оба покушав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ђ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лаз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чај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хват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шт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а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ерењ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”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 проверав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ик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2" descr="http://t2.gstatic.com/images?q=tbn:ANd9GcRz-HUfAyIacuo1PNUOvJQD6HEaMYwVea8q10wpujCnW8NXg-yr7A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рзну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ељ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ршуна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киљ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епт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иг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з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твар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http://t2.gstatic.com/images?q=tbn:ANd9GcQI77yvNpxxhiiCrzY_y7HVNDQWm2f4J0KluWuwHKbyOuxydOWjCQ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jc2LC34uxByvsM4vBaCeY40qc37PNNqkYv_jyEfmI07QrW71U"/>
          <p:cNvPicPr/>
          <p:nvPr/>
        </p:nvPicPr>
        <p:blipFill>
          <a:blip r:embed="rId1"/>
          <a:stretch/>
        </p:blipFill>
        <p:spPr>
          <a:xfrm>
            <a:off x="755640" y="1844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http://t3.gstatic.com/images?q=tbn:ANd9GcR5BDaNZMViwXq7om3ZI6-j8RRr6sroS12anNa1LqjCs71sL4NbDA"/>
          <p:cNvPicPr/>
          <p:nvPr/>
        </p:nvPicPr>
        <p:blipFill>
          <a:blip r:embed="rId2"/>
          <a:stretch/>
        </p:blipFill>
        <p:spPr>
          <a:xfrm>
            <a:off x="5219640" y="549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http://t0.gstatic.com/images?q=tbn:ANd9GcS-Ak4awl7L9Vx47DKxoPnZU_4OYGN5z_HyMp2Qu8YSkWoaS2rH"/>
          <p:cNvPicPr/>
          <p:nvPr/>
        </p:nvPicPr>
        <p:blipFill>
          <a:blip r:embed="rId3"/>
          <a:stretch/>
        </p:blipFill>
        <p:spPr>
          <a:xfrm>
            <a:off x="755640" y="429264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http://t3.gstatic.com/images?q=tbn:ANd9GcQ4sRbNWWs6MZoU_T5AwyBTm5i_dphEromlAKZiNCT8ufnxI6K0"/>
          <p:cNvPicPr/>
          <p:nvPr/>
        </p:nvPicPr>
        <p:blipFill>
          <a:blip r:embed="rId4"/>
          <a:stretch/>
        </p:blipFill>
        <p:spPr>
          <a:xfrm>
            <a:off x="5940360" y="4869000"/>
            <a:ext cx="2781360" cy="164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t3.gstatic.com/images?q=tbn:ANd9GcQXMU-GNioH-QQJidiQf1aTLgaR04_hCFFBvUSGoSi3a7j4JRETPQ"/>
          <p:cNvPicPr/>
          <p:nvPr/>
        </p:nvPicPr>
        <p:blipFill>
          <a:blip r:embed="rId5"/>
          <a:stretch/>
        </p:blipFill>
        <p:spPr>
          <a:xfrm>
            <a:off x="4859280" y="2637000"/>
            <a:ext cx="3025800" cy="1944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2"/>
          <p:cNvSpPr/>
          <p:nvPr/>
        </p:nvSpPr>
        <p:spPr>
          <a:xfrm>
            <a:off x="1987200" y="83664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Е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о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ређеној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р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кривај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 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ањ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нт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довољ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а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ј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ед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http://t3.gstatic.com/images?q=tbn:ANd9GcROZYLJ3XuCaUq_ir4KfswBKJzW5le-eGWgOIJmxq5EmBWDOtDIEg"/>
          <p:cNvPicPr/>
          <p:nvPr/>
        </p:nvPicPr>
        <p:blipFill>
          <a:blip r:embed="rId1"/>
          <a:stretch/>
        </p:blipFill>
        <p:spPr>
          <a:xfrm>
            <a:off x="6227640" y="189000"/>
            <a:ext cx="214308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8" descr="http://t2.gstatic.com/images?q=tbn:ANd9GcSyStjQRxj4-5ygXcW-KhSHDqc2A33ahD8J3pWN6Dl_fIg_84Hf9A"/>
          <p:cNvPicPr/>
          <p:nvPr/>
        </p:nvPicPr>
        <p:blipFill>
          <a:blip r:embed="rId2"/>
          <a:stretch/>
        </p:blipFill>
        <p:spPr>
          <a:xfrm>
            <a:off x="6732720" y="43657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гнут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њ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н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жу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 делим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ире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арањ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влаче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стављ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ит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жели 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авез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дговор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орено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убмисивност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дн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редак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л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гуран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 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овориш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”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http://t2.gstatic.com/images?q=tbn:ANd9GcSWTqhVtiYhtp6NWgWs5uXveEkWrDLTPMLcWoQjByaxnzyqvgZ0ng"/>
          <p:cNvPicPr/>
          <p:nvPr/>
        </p:nvPicPr>
        <p:blipFill>
          <a:blip r:embed="rId1"/>
          <a:stretch/>
        </p:blipFill>
        <p:spPr>
          <a:xfrm>
            <a:off x="5148360" y="692280"/>
            <a:ext cx="30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дигну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ринут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лакш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с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рус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со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цен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цило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р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л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позна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здр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4" descr="http://t0.gstatic.com/images?q=tbn:ANd9GcSarMfwxQD3wpVI95VeoVhOLATolS-a65494NxbrF1EW_3hahZVow"/>
          <p:cNvPicPr/>
          <p:nvPr/>
        </p:nvPicPr>
        <p:blipFill>
          <a:blip r:embed="rId1"/>
          <a:stretch/>
        </p:blipFill>
        <p:spPr>
          <a:xfrm>
            <a:off x="6084720" y="765000"/>
            <a:ext cx="191484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нац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чествуј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ном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чин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м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дупир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опуњу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упротставља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203328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аж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жа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онал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иш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ши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43)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ш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хиљ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http://t2.gstatic.com/images?q=tbn:ANd9GcRVTHHNqzL-TYJHmLvuC1W43Q5aEtBAyml6TCjx_ZOGu-tqqoJD"/>
          <p:cNvPicPr/>
          <p:nvPr/>
        </p:nvPicPr>
        <p:blipFill>
          <a:blip r:embed="rId1"/>
          <a:stretch/>
        </p:blipFill>
        <p:spPr>
          <a:xfrm>
            <a:off x="5867280" y="333360"/>
            <a:ext cx="288144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http://t1.gstatic.com/images?q=tbn:ANd9GcQj2j_BQib9HKsM--ER12aCai3eTgU9GyUE-zEB2MJjP3q6qKLr"/>
          <p:cNvPicPr/>
          <p:nvPr/>
        </p:nvPicPr>
        <p:blipFill>
          <a:blip r:embed="rId2"/>
          <a:stretch/>
        </p:blipFill>
        <p:spPr>
          <a:xfrm>
            <a:off x="1332000" y="71280"/>
            <a:ext cx="295272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5280" y="1888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д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ал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не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ђе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133800" cy="408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://t0.gstatic.com/images?q=tbn:ANd9GcQIas4iE0T6xiVLcyj3W9HyJmgaqI1HOmWJ1D7HCfteFuman6f0Sg"/>
          <p:cNvPicPr/>
          <p:nvPr/>
        </p:nvPicPr>
        <p:blipFill>
          <a:blip r:embed="rId2"/>
          <a:stretch/>
        </p:blipFill>
        <p:spPr>
          <a:xfrm>
            <a:off x="2340000" y="189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50760" y="2707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7" name="Picture 2" descr="http://t1.gstatic.com/images?q=tbn:ANd9GcSTwWGJQT-gJRp4DKzH3u-p2vkUJhn4sI93dyFHaWmIZT700XEd"/>
          <p:cNvPicPr/>
          <p:nvPr/>
        </p:nvPicPr>
        <p:blipFill>
          <a:blip r:embed="rId1"/>
          <a:stretch/>
        </p:blipFill>
        <p:spPr>
          <a:xfrm>
            <a:off x="5724360" y="40464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t3.gstatic.com/images?q=tbn:ANd9GcRRR4oj7LW6PgwtBvpV8X9k96iUYBaAN1fHFamiziFN1X380NA2"/>
          <p:cNvPicPr/>
          <p:nvPr/>
        </p:nvPicPr>
        <p:blipFill>
          <a:blip r:embed="rId2"/>
          <a:stretch/>
        </p:blipFill>
        <p:spPr>
          <a:xfrm>
            <a:off x="1547640" y="333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t1.gstatic.com/images?q=tbn:ANd9GcT_vaUZdI4OUnfxZpWBJAEx2wOMEXV5VwV6I15LtlNkqO0dFFxUvQ"/>
          <p:cNvPicPr/>
          <p:nvPr/>
        </p:nvPicPr>
        <p:blipFill>
          <a:blip r:embed="rId3"/>
          <a:stretch/>
        </p:blipFill>
        <p:spPr>
          <a:xfrm>
            <a:off x="5003640" y="364500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989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 споро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пе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ли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еба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реме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очени 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асиметрича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с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дн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дигнут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гл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 ш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з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тепену 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је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2" descr="http://t1.gstatic.com/images?q=tbn:ANd9GcT_vaUZdI4OUnfxZpWBJAEx2wOMEXV5VwV6I15LtlNkqO0dFFxUvQ"/>
          <p:cNvPicPr/>
          <p:nvPr/>
        </p:nvPicPr>
        <p:blipFill>
          <a:blip r:embed="rId1"/>
          <a:stretch/>
        </p:blipFill>
        <p:spPr>
          <a:xfrm>
            <a:off x="6523200" y="512640"/>
            <a:ext cx="2152440" cy="21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Qf_H4RQGrZkE__Rdky11Aegk3oOXRhvtw8gSMwOY8fVWyFJrQR"/>
          <p:cNvPicPr/>
          <p:nvPr/>
        </p:nvPicPr>
        <p:blipFill>
          <a:blip r:embed="rId2"/>
          <a:stretch/>
        </p:blipFill>
        <p:spPr>
          <a:xfrm>
            <a:off x="1835280" y="260280"/>
            <a:ext cx="2819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3640" y="1412640"/>
            <a:ext cx="856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тепе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у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гас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с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е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клад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ој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етрич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вучен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игнутим ус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г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ољни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рак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о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испод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есиц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мал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ај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2" descr="http://t2.gstatic.com/images?q=tbn:ANd9GcS2--Vz3gDm6uEV474dh9AiwOJuGrI_ahGiBdGgAcXNZDqbbA-Hgw"/>
          <p:cNvPicPr/>
          <p:nvPr/>
        </p:nvPicPr>
        <p:blipFill>
          <a:blip r:embed="rId1"/>
          <a:stretch/>
        </p:blipFill>
        <p:spPr>
          <a:xfrm>
            <a:off x="5580000" y="549360"/>
            <a:ext cx="2087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тиснути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к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ј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држав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ћ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ћ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иљ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т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биј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иђа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спешних пословних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о 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хоће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жу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а зна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н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осл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, 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н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уш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е 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кријет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!”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2" descr="http://t1.gstatic.com/images?q=tbn:ANd9GcQKOA0S0sroroxxiCyf46Ekd_j5blD0rkFT-8wPmw1UlRXVWBzW8w"/>
          <p:cNvPicPr/>
          <p:nvPr/>
        </p:nvPicPr>
        <p:blipFill>
          <a:blip r:embed="rId2"/>
          <a:stretch/>
        </p:blipFill>
        <p:spPr>
          <a:xfrm>
            <a:off x="5651640" y="321300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t2.gstatic.com/images?q=tbn:ANd9GcQo5Mw_fLzNnTGrgYaGSzAs9H3Rrk0ktOTZBnllDc0-ABtFDLCP"/>
          <p:cNvPicPr/>
          <p:nvPr/>
        </p:nvPicPr>
        <p:blipFill>
          <a:blip r:embed="rId3"/>
          <a:stretch/>
        </p:blipFill>
        <p:spPr>
          <a:xfrm>
            <a:off x="6012000" y="907920"/>
            <a:ext cx="228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2349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скривљен 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рактеристича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падн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т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н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аљ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д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каз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1" name="Picture 2" descr="http://t0.gstatic.com/images?q=tbn:ANd9GcTXIeR6TdX_O3iPVrOqs0N3-tn-E4SCFTTwnJ4R3AMdxn7rhAoi"/>
          <p:cNvPicPr/>
          <p:nvPr/>
        </p:nvPicPr>
        <p:blipFill>
          <a:blip r:embed="rId2"/>
          <a:stretch/>
        </p:blipFill>
        <p:spPr>
          <a:xfrm>
            <a:off x="6948360" y="400536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1.gstatic.com/images?q=tbn:ANd9GcRKC510y5ZySrVHQWrfWKGe4axqJ8Sg_ya2HPNDk70zgddVn8bzhQ"/>
          <p:cNvPicPr/>
          <p:nvPr/>
        </p:nvPicPr>
        <p:blipFill>
          <a:blip r:embed="rId3"/>
          <a:stretch/>
        </p:blipFill>
        <p:spPr>
          <a:xfrm>
            <a:off x="5076720" y="1052640"/>
            <a:ext cx="27622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747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 искоса уз поглед 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шкарц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ди очин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њ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до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ск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варач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пертоа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0" descr="http://t3.gstatic.com/images?q=tbn:ANd9GcSLmGlZYoHkRMHi4uImmzZ8lX-j-_h2I_cUvgD6DwBQj8N7rEOB"/>
          <p:cNvPicPr/>
          <p:nvPr/>
        </p:nvPicPr>
        <p:blipFill>
          <a:blip r:embed="rId2"/>
          <a:stretch/>
        </p:blipFill>
        <p:spPr>
          <a:xfrm>
            <a:off x="6372360" y="3357720"/>
            <a:ext cx="2016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И РУКАМ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545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мски поздрав                               Потчињен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минација                                   Једнак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228760" cy="1685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2701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2733480" cy="203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2695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33"/>
                </a:solidFill>
                <a:latin typeface="Book Antiqua"/>
              </a:rPr>
              <a:t>78%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13%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лас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ик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9%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држ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nixon"/>
          <p:cNvPicPr/>
          <p:nvPr/>
        </p:nvPicPr>
        <p:blipFill>
          <a:blip r:embed="rId1"/>
          <a:stretch/>
        </p:blipFill>
        <p:spPr>
          <a:xfrm>
            <a:off x="1692360" y="3573360"/>
            <a:ext cx="2098440" cy="23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fk"/>
          <p:cNvPicPr/>
          <p:nvPr/>
        </p:nvPicPr>
        <p:blipFill>
          <a:blip r:embed="rId2"/>
          <a:stretch/>
        </p:blipFill>
        <p:spPr>
          <a:xfrm>
            <a:off x="4643280" y="3573360"/>
            <a:ext cx="20894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ВОНИ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ављ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кциј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на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ада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ур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ес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Picture 2" descr="http://t3.gstatic.com/images?q=tbn:ANd9GcTmihuv0Tb3HYrk3dBoGqWC6b1Zpk35DlQOcDL1Hx939isiztbi"/>
          <p:cNvPicPr/>
          <p:nvPr/>
        </p:nvPicPr>
        <p:blipFill>
          <a:blip r:embed="rId1"/>
          <a:stretch/>
        </p:blipFill>
        <p:spPr>
          <a:xfrm>
            <a:off x="6443640" y="1916280"/>
            <a:ext cx="1873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 РУКУ ИЗА ЛЕЂ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тичар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цајц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поузд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ит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еђ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чећ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те супериор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228760" cy="31431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РУЖЕН  КАЖИПР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азива негативна осећ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 слушаоц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/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ушао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мер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ер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ни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4" descr="prekrizene ruke"/>
          <p:cNvPicPr/>
          <p:nvPr/>
        </p:nvPicPr>
        <p:blipFill>
          <a:blip r:embed="rId1"/>
          <a:stretch/>
        </p:blipFill>
        <p:spPr>
          <a:xfrm>
            <a:off x="3564000" y="907920"/>
            <a:ext cx="1925640" cy="223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prekrizene noge"/>
          <p:cNvPicPr/>
          <p:nvPr/>
        </p:nvPicPr>
        <p:blipFill>
          <a:blip r:embed="rId2"/>
          <a:stretch/>
        </p:blipFill>
        <p:spPr>
          <a:xfrm>
            <a:off x="3564000" y="4005360"/>
            <a:ext cx="1901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аши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ренут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м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кривањ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0" name="Picture 4" descr="nev komu"/>
          <p:cNvPicPr/>
          <p:nvPr/>
        </p:nvPicPr>
        <p:blipFill>
          <a:blip r:embed="rId1"/>
          <a:stretch/>
        </p:blipFill>
        <p:spPr>
          <a:xfrm>
            <a:off x="3564000" y="1916280"/>
            <a:ext cx="23032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дирив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с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в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близ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ст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дмиц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овратника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дн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б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џеп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х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жипрсто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Picture 6" descr="kaziprst"/>
          <p:cNvPicPr/>
          <p:nvPr/>
        </p:nvPicPr>
        <p:blipFill>
          <a:blip r:embed="rId1"/>
          <a:stretch/>
        </p:blipFill>
        <p:spPr>
          <a:xfrm>
            <a:off x="3059280" y="3838680"/>
            <a:ext cx="25923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живљаваћ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вас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соб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ој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ијатељск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прем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срадњ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ед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сговорник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мешк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тврд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им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авом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к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уг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овор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казуј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тво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време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тич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жи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тран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л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гн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пред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иближав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аљенос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поред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оворник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сториј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нтим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5 – 4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руж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љубљен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Лич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45 – 12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јатељ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оцијал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,2 –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дав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ад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зна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Јав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ој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руп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55640" y="2349360"/>
          <a:ext cx="7488360" cy="3660840"/>
        </p:xfrm>
        <a:graphic>
          <a:graphicData uri="http://schemas.openxmlformats.org/drawingml/2006/table">
            <a:tbl>
              <a:tblPr/>
              <a:tblGrid>
                <a:gridCol w="1959120"/>
                <a:gridCol w="2759040"/>
                <a:gridCol w="2770200"/>
              </a:tblGrid>
              <a:tr h="87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актеристике комуник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е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ложе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една димензија (ре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ше димензија (став, глас.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р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врем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нтинуира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Јасноћ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етко је погрешна интерпрет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век је двосмисл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Учин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абиј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ам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јчешће 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есто не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711720" y="136944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лике између вербалне и невербал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5076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о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даљ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ријент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52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лац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А 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к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л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единачни аспе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а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умети 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ек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оп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663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моћ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зив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ања интерак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суд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нхронизацију 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3816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акциј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ц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е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ц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ткр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562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6978600" y="0"/>
            <a:ext cx="216540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искре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сигур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Milanče Sin</cp:lastModifiedBy>
  <dcterms:modified xsi:type="dcterms:W3CDTF">2023-02-05T16:13:25Z</dcterms:modified>
  <cp:revision>60</cp:revision>
  <dc:subject/>
  <dc:title>Slide 1</dc:title>
</cp:coreProperties>
</file>